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9F2-FE2D-4966-9063-8BD7E0EE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0C2-B406-4AE4-827C-CB292ED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B285B-7F0E-41FC-BE69-DB10E09F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7900C-1B10-4768-85E1-9F73D1A4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73D9F-9A0C-439A-A3B7-9463F8E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EA5FC-7FB9-4728-82BE-5419B28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B382-619C-4347-BE30-1A454E8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AF734-3649-43C3-9FF5-B6E01AC4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41E92-9B33-4D50-B919-17A3619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9C9C0-E688-467D-8B90-4C5E9B82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11816-7566-4D8C-8577-B89816E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40929-4C87-412A-AE91-A2B044E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8F5-93D5-4721-A97F-23BE9AA6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9B822-F972-42BA-8A46-1C92FC3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EBEB5-CDCD-4462-B1E3-AC950A2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6B148-5BD9-4A1F-9035-D67E4B6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0B132-835C-48F8-97E0-E63BAFC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D4CA-CBAD-4B03-AD83-D4938168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B8746-F666-4DCC-BFD5-850E0250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98F70-0E33-4AB7-ADA1-25ADE4E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A6A6-C08A-47F5-BC98-174A21E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7B8DE-8E8A-4F3A-B731-4368B0C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6758B-D51E-40F5-B0D8-292E881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9C-F6B8-4E33-8F01-0CD2E5A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4986B-E0EA-4B13-A0D3-D3DD4F37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44A5B-5D4C-47BE-9C19-BB4E2F28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8EF00-87F8-474D-9FBD-53181107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BDC3E-C9A5-4F4B-828F-9EDC62F9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0B922-1448-4C49-B345-A31A2F98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45484-AE72-42F6-ADE4-28B8F140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684F-AB3F-4ADB-97C4-F828BDAB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CB24B-C464-4E68-B680-EF4CB23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83DD7-B42A-4169-A86F-DE857B2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406FC-9071-406E-B156-068B504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C51-71CA-4C6B-9E05-63C39C32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D241-57F1-49C2-BA47-2F94FDB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308E-89A7-4AC3-9091-952FC3ED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C78B-2714-4AF7-815D-F4BEE95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F90E3-5613-42C3-BC50-F2ABCA8C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91E75-FC6F-48D4-B892-164B9B9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1B425-A857-4150-A66D-B688492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E27CD-B92C-4F25-A46A-6E2E5F7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7DF16-0C9E-4A8F-B531-FBCA5E0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F7D6D-6650-4682-9C61-AD3A99C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5C93-6D3A-4F50-9045-E5ED54A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E641-1B12-4695-BB8E-67F3985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6E0F3-61F5-475F-8494-AE2DE530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54A4F-35CF-426E-B06A-0155057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D9524-7EF1-48CA-8B80-6D2E738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971B1-7B29-4307-9B03-44F5E680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60A62-B7A2-42E2-AEC7-C894386B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13FD3-2130-4A44-BDEC-84106AA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467A1-7471-474A-AB25-85A0BF2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2935F-36B1-408F-AAB8-B9D651FA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8E087-2ABB-4393-880F-66E2892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2B0C7-BAB6-469E-81B0-439845F4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766C-947D-44E7-A062-E278D0E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7860F-AC40-4674-875E-6A352DF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B4D8C-EC36-4686-BDE9-FA2015A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2E576-7F02-4F89-BEA5-FF6ED27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A6398-778E-4194-946A-5679C66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CE501-E866-4278-BC43-F959B15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C0DAB-0DB2-4785-8B03-D6E25491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8138F-BEB0-4630-85BD-763EC037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93899-CE2A-4A5F-A8DF-E97B651F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C82F4-882A-4EF1-80F2-FFAD5A5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0568D-8E60-43EA-BD06-48DBD8A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249-32A0-4138-8D4E-AAD644F1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C2EF6-E2AC-45BB-B860-7030AD67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5ED9D-5E9C-4815-9BDA-19E78AC3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BDD4E-0843-4034-8E54-1232903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E3C1F-5B36-4715-83DC-D6A3265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1B17A-1B17-4659-9E8D-E4470D0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F01EA-F8D4-4132-AA5B-B579361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F4FA8-ECCC-404C-BD9D-3672830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B185F-D7CD-4005-A61B-83DC2928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39A6E-8925-4FFF-9B15-E6EE9A34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85EC8-1860-4834-B3D8-38D1B83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F6C4-F41A-4D37-AB01-97649D0D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17381-0600-4063-9B11-08AE2C5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D67F0-D237-4C7D-A068-1B1428B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978A3-BFFD-4B55-9032-DB45DDF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5815E-2D10-417B-8D86-D218832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2BFB2-F1E8-41E1-997B-CCE6804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D0E25-2E09-4552-BB9A-77473CC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622F7-F42A-4660-A717-90ACC24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606FD-FEC0-40D5-BCCE-D8802C97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E2F4F-8610-40DB-8E84-EAA70324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7E79D-E200-4FBD-8700-F9B2DA7E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E37-B9F2-4B9C-83FA-5F560C98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18683-D70E-41C4-95B2-2B999F35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AECB9-5D91-457F-A60B-464802C1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029EE-BFC4-4BFF-B1D5-DB71895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C411D-4FBE-4794-AB5F-0CEE92BC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D1A0F-EEC7-4FE3-AF8D-B1313D6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C1428-F56A-45D7-B251-CF4E97B5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97204-1711-4303-B70F-4D5EA7F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ED2B4-7858-4546-984E-448C159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9190E-83C1-42A4-9CF5-BD634FB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BB990-C3AA-4527-B4D2-6C10470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AF33-571D-4996-8194-FDC7361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BEF24-D6EF-49E1-98F9-1A6081A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9A463-1ABF-43D2-8473-20A0832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B2E63-5BB8-4E44-92E0-DDB745A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7891D-F9D9-4DDD-A5AF-87F689FB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A37A4-C84B-461B-8E03-77658E3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7DE6B-77DB-421A-89E1-7797F43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D2BB2-DC26-43AE-ADDD-742D829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A1722-8385-4C3B-9CB7-B35FB35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0F02E-1B6E-4224-8554-433BE0C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B84DC-D7C0-47D9-B2FD-755AC82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0E7-5CA8-401A-BABF-85B41C6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4CF-1B32-4BED-AB9F-67F45BE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07C4F-6736-4912-A568-FC31178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82125-F22C-4A24-8305-AB431FE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F5545-F279-4D50-8662-6BA5369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C2044-9250-4FD4-8CD9-9DB0B046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6095E-965D-4882-AB7E-221DB4D1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91C25-A8BF-4B30-89E5-7F2323E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322A8-1F21-4860-8A8D-A2E2947F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E9FED-D222-411F-8EB2-9792767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A810F-6CE5-4381-953B-1DC48CD2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E06ED-8154-4C05-B69A-D0440426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CDB-FFF2-4FFE-B5EB-C0989FF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E9475-A3BA-444C-8BEB-40D2291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4DB50-AEAA-4967-A4FC-5A1A740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F6F75-1F81-4DD3-B470-0D280EB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95901-416B-4B47-9E02-1DD31EE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EF474-E409-4B9C-B9BF-B99F35B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8695C-D015-4412-B199-6FC78543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1361D-04C0-42BE-A983-A589488E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1BE1D-3E36-48C1-9945-397673A7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30A7A-878B-405A-B776-33AD0F1A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025A8-1986-48B6-A5BC-747D02E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DD5F-E708-44AE-B2F0-50DEBDA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31E3D-63EE-4BC5-AF72-9817486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1AE7F-F7FA-4E62-BFFE-DE87EAF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579A4-FB02-48D7-9B16-8179CFC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32B0B-AC1F-443F-8001-164BD142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E9C7A-5675-452D-B16B-ADF77EC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BD0E4-360E-43CF-97B9-BCE92BB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F11DB-4BBF-4174-BF35-4906CA4D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93249-C146-4E9B-8398-E3654354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DFEDA-82F3-4134-A74B-1220A8B2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C4A04-CB0F-4566-A6E0-4C73F8E9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C12D-9F34-45F8-BA00-277C738A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BE690-DFAB-4620-9BD6-3E88709D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44231-A7D0-4708-9430-0BDF6F2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E7F65-2AD4-400F-B5C0-203609F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AC602-C8B5-475D-87D5-F9FA2E8F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65437-BD1E-488D-A295-DCC98FD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5BA3D-A667-4535-B8A8-B6AAF3B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D8AEE-6038-4A48-9F3A-A079A66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33848-682D-48B2-A10E-FEAA3F3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4CB28-61B0-44E6-811F-8C9ED2B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40EAB-F668-4CA2-9828-25440716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4F9-8375-43CE-9E9F-97CF0FEF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0F02B-26E3-4620-9CB6-2BE30B0C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46455-F792-44AF-AC6C-4300FD4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80B25-5094-446A-B90B-2258BD74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B7744-4BC8-46EC-91AC-DD7866A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8AE97-2024-4480-9BDB-C0B134D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11713-EA07-49C0-B56A-0F29DE01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475F9-56BB-4532-A103-9442973A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70CFF-5199-4534-A7C8-BD6AAB4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42F38-27D9-4B98-9B67-A2B1DD1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2267F-460D-4696-B2CC-AACDEA1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B76C-9EA5-43CB-B22A-4F723C1C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46083-A6BC-4111-9F86-2F05DD5B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36929-7BE8-4F02-B9D4-F884AA5E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ED128-D695-43FC-A74A-F521695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7FB8F1-7BBB-4D10-B45F-D06CC4AE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89E1C-464E-4CBF-9FDB-C1FF013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F38E0-56CE-45A6-BADC-E2A4447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D9F6F-8800-4F75-805E-AF54EF2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8E052-82FC-483D-9D7D-EA8EBFA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67EC2-CD44-4B1D-B50C-E245F273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3D43A-4E93-49B8-9020-C4A663A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C2DA-74B6-42C6-B2CE-467B9D4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244A1A-9D25-4D13-84DF-92F7686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CFE80-98C8-43BC-9169-D5CD07B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59333-FDDD-48E0-8ED5-C17E5038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EED46-53E0-4030-A5B1-8F208A0B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4692B-BE69-45ED-8779-E2E6DE07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CB51-73C9-4A12-8721-614ACE0D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FC13-9023-413D-B456-5970BF9C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6273-F00B-4DF0-8B1D-F963E40B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A13-A4BA-4CAD-92E5-1174D161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B827-48B3-40FE-8C1E-ED3853B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8D86-ABC4-41A7-8D1E-87A5DFD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079A-2B9E-49CF-A3B7-4798D1D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1D12-7022-4F98-BECC-DED9D52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DBC1-83FD-4877-AA73-6BADD784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9276-EE1E-416F-AB73-827B081D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7D73-C3CB-4AD0-94C2-308110C5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9E52-9364-4DE8-977B-45BE6981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22C5-7D94-45CF-9181-DAB7E6DD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0268-9BAC-497B-B8D1-9650A7C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087-430B-46A9-97C2-7B0FC1B0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0216-CFC1-44B8-A11D-6BB023DE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315F-10EF-42FF-98CD-D56F3D76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D9F7-C5A5-46F8-9B26-40D5768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4760-D2F6-4944-A53A-8C9FF4F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A961-A9E3-4BAA-A7B3-6DC9E4A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E316-78D8-4475-B41A-7363FCF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F9CF-3A6C-4D98-8214-DC65042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BD8F-18F3-4146-B7EA-3288BB1B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A03C-0DB2-4E8D-BF23-DA0557D2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260D-687A-4E41-9330-B99D298B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EDA-6E75-41F3-B1FD-27BAA886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04E3-37B7-47FA-8D66-32055545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7392-25EF-42BF-BAC6-72A426B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992D-5C24-40BE-A50C-D77A3087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C40F-E936-479E-A0C0-7180C36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BA80-E055-4C47-9925-74E06EC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9959-19A7-4064-8FD3-DB72FE8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42C0-14BF-4A17-97EE-5E640BA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A536-F9D0-43AC-81F6-78D5EBA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31D9-9D96-4995-9D06-77C0058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DB4A-766B-4B3A-8943-150F207B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623-C856-474B-B366-A36DD772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D190B-7051-492E-BD71-87645232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2FCE-96E2-4477-86DA-2B859EF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ACDD5-02E4-4D93-B30F-D2F1E2A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9787-1052-4C01-A739-C4CB295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2A78-F762-4B5B-BB03-7C54078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4363-4284-4A50-A485-4DE9CFF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D6F1-3918-4017-86E5-5071355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BA90-4470-422A-918A-BA16E55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E44F-C7DD-46E2-AAC3-FF1250F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3D0E-82D9-4D59-8D8B-531FA23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1A9-3C37-486A-90A6-574F3AD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6ED0-FCE4-4C89-BA9E-4730E4B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09009-CAA4-4C40-A231-F6FF32A4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2D84-5EC0-454A-8E97-1D9F2443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66D6-929B-4531-BA7E-4A4181EF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7CD1E-72C9-4641-990A-A561C4D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95537-0B3B-488C-821F-13C0E8C4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D495-FB70-48CA-89FF-C320C9E3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7A09-29B2-4EA0-9B7C-60D9AFD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EE13-1507-43EF-967F-25719352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2526-BC0E-4255-9CCB-21FEAE9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68E-9BAB-44D3-AE57-117116EA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58EA-22E0-4EF9-8D86-1C762C2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F315-03E6-4D30-A4A9-E139EED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0081-BD24-406A-9F91-5E7B50B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717CA-E2F6-4BE2-AB51-31D4B7B7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1D75-A5BB-4B62-B923-6533871B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5D07-C21C-425B-AF15-C15BA638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6DFA-D3ED-4926-899C-636618B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54322-1E45-4B09-83AA-4705E290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FB31-84BD-42F5-8BC5-A47BD09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35B5-D6CB-473A-BEA6-47F0292D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FE9-93BA-459B-BD52-AA9656B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676B-67C0-4BE2-BAEE-7B94528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1170-ABCA-4A11-B73D-793A4C50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C7A45-56B7-4A0C-9E54-06F27455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5D77-9462-452E-8ABC-6EC8DAF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07E1B-F5E6-4680-ABD7-BF29E0B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09451-31D0-464D-B0D6-B5FF8D9B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FFD0-CB9F-4130-8C1F-D7011D28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0C98C-7517-4208-84EA-9A979977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0DF05-6893-4CA0-BE54-B70627A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455A-4281-4AAB-9703-A85AC9A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E3AF-7845-4FCF-8BE2-C0E3764EF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E75-33B6-4CF0-A268-6B90C36C2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79C3-2D99-4268-944B-E7A2F5253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0BC-366D-4215-AFEC-E12C9EBBEF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B38-4983-4E5B-AE48-9FC13D54D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64B4-6B84-43E9-9472-E63A41724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99E2-49AC-47A1-847F-47B259ED2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66A0-07AF-4316-8F75-D2805AB75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EDD-DAFD-483B-8BF4-3D5982667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877-7F9B-465F-A471-61B1B4AF7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D04-C54A-4775-BEAE-0EB8C638EE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BFE-5C34-46CA-B04C-2C860AACA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F92-6C23-4484-A709-EC662EFE9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3F1-C49E-4C23-989E-EFA5F6CC1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D12-8D75-4B2F-B88D-7321733CD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30A-B9E4-4058-A8C3-3566A503E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735B-8237-48FE-9532-3284967D41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DECC-B79C-4563-8943-5ED460D1D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996-557D-4BDF-B1F5-5AB3D38A2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F76-96F8-4858-8A4E-3F86A01ED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B37C-9260-4DCE-8D16-2EB27DF0D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051-D222-4690-8F4C-B153E8EB20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0CC-8BEF-491A-A1C1-0CB2B03E5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E65-42AF-48FA-803B-E90E08356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1D8-0E60-4711-A6B9-10AB02BFD5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9A5-B9E3-4625-89D5-7E7E7042E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ED1-E506-41E8-A31E-8545448288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64B-B7E6-4816-8DE4-A97C970DC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9F1A-AF8D-4250-B027-296433847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DF1-2681-4035-97D1-7056AB2BB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9A09-E0E7-4D6D-85A7-983086CEF1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AA69-13A7-4B64-A78F-DBC98383A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4C7-7299-4C05-B623-C17E5C44A0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A5C-1981-4DA3-8A49-2599E7B802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2AE-F22B-419E-986F-CD646E764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B8C-9FE9-43A4-AE32-ADB8ABFD1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256B-2709-41EA-A50C-3BF9F1D7C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369-E1AD-4E96-ADFF-517030085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924-70A9-4438-93AE-DAF43579A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EE8-B37E-462E-800A-BDC3513A1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0A18-81D2-4D9F-9B2A-F8ABD5885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147760" y="3095640"/>
            <a:ext cx="4848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566640" y="1066680"/>
            <a:ext cx="8010720" cy="47246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1878120" cy="427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340000" y="2506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076720" y="2506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740720" y="2506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234000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5005440" y="30542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7899480" y="304020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7169" descr=""/>
          <p:cNvPicPr/>
          <p:nvPr/>
        </p:nvPicPr>
        <p:blipFill>
          <a:blip r:embed="rId1"/>
          <a:stretch/>
        </p:blipFill>
        <p:spPr>
          <a:xfrm>
            <a:off x="219240" y="1376280"/>
            <a:ext cx="8705520" cy="410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7170" descr=""/>
          <p:cNvPicPr/>
          <p:nvPr/>
        </p:nvPicPr>
        <p:blipFill>
          <a:blip r:embed="rId2"/>
          <a:stretch/>
        </p:blipFill>
        <p:spPr>
          <a:xfrm>
            <a:off x="5637240" y="243360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7171" descr=""/>
          <p:cNvPicPr/>
          <p:nvPr/>
        </p:nvPicPr>
        <p:blipFill>
          <a:blip r:embed="rId3"/>
          <a:stretch/>
        </p:blipFill>
        <p:spPr>
          <a:xfrm>
            <a:off x="6502320" y="4522680"/>
            <a:ext cx="18781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193" descr=""/>
          <p:cNvPicPr/>
          <p:nvPr/>
        </p:nvPicPr>
        <p:blipFill>
          <a:blip r:embed="rId1"/>
          <a:stretch/>
        </p:blipFill>
        <p:spPr>
          <a:xfrm>
            <a:off x="1000080" y="1766880"/>
            <a:ext cx="7143840" cy="33242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8194" descr=""/>
          <p:cNvPicPr/>
          <p:nvPr/>
        </p:nvPicPr>
        <p:blipFill>
          <a:blip r:embed="rId2"/>
          <a:stretch/>
        </p:blipFill>
        <p:spPr>
          <a:xfrm>
            <a:off x="4802040" y="4522680"/>
            <a:ext cx="2705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5:4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